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FA795-AE98-4A5F-B9C7-D697BA237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439DD-5E71-4CE4-9061-3FF8A51C6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975EA-54B3-4067-9464-CFF5039DA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B813E-C5E0-4DF6-9436-9A7DCB5AD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674A-64AF-4DE6-AB90-5D5757442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F499A6-2D93-44D3-B35F-6E1798430BF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66828DC9-E2A2-429C-9FED-1995FC43B4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7552D1F8-4B8E-422C-A129-2B0A89E8E92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9477BAF3-B471-44E5-834C-0D563875BE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5593CD7F-8784-4184-BEC1-DBDEE1F9F1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A0E0B-0542-48C4-9ADA-A16ED97F3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4121E706-B50F-4B97-A0B9-797FCEE0C8C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BEDD212-B5C8-4FDD-9E63-F2E42DBFBB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3EEFB8F0-FCA9-4C32-9C66-0126FE8611A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3E0CC695-E320-496D-8D15-C5F1E2B5B8B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F59DC8E1-C699-457E-95BA-28C471646F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FCB89C27-9BAA-4691-A954-06219EFF58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B5E0428D-79CB-4A7C-9333-E1A61834D2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E7462-D028-494A-A83F-BFEFC511F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D2553-F03F-497A-B1C8-F632CA8E1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E6BC6-AFC6-4669-AAA6-2F2716706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8F771-B4E3-4C0B-A0C9-68922B8E0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53469-8FCC-4E5C-A1C6-D4FB2D3C8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AA57B-0300-43D4-A177-39B554A4C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4A8E0954-35CC-47A8-93CE-E6761885DC4E}"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466671C2-C5C8-4926-B5F5-6B8253411F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AAC45B-6067-4A29-89CF-3130D106CE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21ED72-7AAE-4EAB-B812-30FEBD25B12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9DCE09D-7BD1-461D-928C-9811B6F2F86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3BD00A-A5CE-402C-AEE8-E9F038B5F8A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4FD9F5-1748-4728-8985-3504CD08087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25C2AA-B486-4355-95BD-8E91FD8EEA5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476055D-7514-4265-B2F2-4D893968EE8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2E5FB3-07A7-48DA-BA87-E907A01D6D1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CB283D-2969-44B2-B83D-5014B1A642C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44DEF2C-BD4D-4B6B-8C52-55009E17ADB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903A59-B14A-4790-B199-14E49E5C9A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7E1BCF2-695F-4CCF-9F03-4B144F04024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B2F690-93E8-4313-81CA-B3127F71C90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7AE1407-A096-4AA7-9B41-B02FFB443FE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4C6D2E-76FF-43B6-91E4-49AB92908AB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539291-BC8C-4FCE-8D53-B4351CA0452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C2116A-2F02-4AE7-9196-C41044E2160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CDC03D-C2A0-4884-8DF5-6E3DCAEF26F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C794E4-0AB7-48BB-8E3B-4B7B15C6283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409730-BDFD-4316-A04B-E79E311249F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42B20B-2F15-4B3F-B3E5-D6FE66C9534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9D9A18-C024-4628-9B20-ED0E06A2C3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0988C1-7549-470C-88AA-7ED2AB6C6D5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16E765-2701-4F2D-A66D-4D26F6EA24E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F9C4E9-AB10-4235-878D-156EA2EDE05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DAB8D0-3580-43E5-A8CB-FE8FE57128C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F7C040-BD10-4E40-AC68-A35EDED3BAB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28CBCC-2C52-49F1-8767-A684D111426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570BB7-C8B7-4F5B-8FE9-1D18C56647F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53F698E-048F-4B10-952B-A1ED3F3E78F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33B01E-3B71-4163-A261-B151E17C448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E0A1A79-C9CE-4D6D-92BE-2323BFA9727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F0951E-2445-4C36-AE0C-5DF726115F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B421B6-520E-4E94-8F0B-AEEE99F01487}"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4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DA2169-5CE1-4880-8390-CC41615B1F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A8DAE1-7740-461B-B941-7E41A50347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2D02C55-B101-4E28-A4E8-9FFB2D07F3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FBE2E3-774D-48AD-A8CB-7995B8FB96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FFCEFF2-55BD-4D33-B063-47ED71DC9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7AC6C3-41E0-42A8-BCB0-8332BB4301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A45F992-78BA-485B-A9C1-F48F0F9B4D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8C6F7B-BC70-4018-9B05-69E5096442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3A22AC-148B-4DBF-BA89-F6C529A10C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2DD02F-FF3F-49A5-99A5-0C3D4B734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D0E503-8A90-4DFF-A621-A4A7DC780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DB0083-31FD-4B61-AEBA-62F3C944CE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B33D49-5EE2-49AD-93B3-A7647E99D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233219-7723-4646-89A5-D245B24F27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6F6F325-7051-49F3-9953-F8B67C829E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F9A6E8-BBBA-4716-A223-02C29A776B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B5B7AA-0E43-4EEF-B4BF-201A5327FD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FCAF90E-9989-4B89-A1CB-B71E6A94AE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A0D0E6-8E72-4888-B213-8514A8A622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69D9E5-3133-4F9C-8139-FB2D5A4FAB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409D19-6C4C-4172-9811-A5EC658819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AEBCCB1-4C4A-47B7-A8F8-045EFC7109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7240BE-91E1-4324-8403-24DC999FE04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4722ED-FBA1-4125-A1DF-1A0CE9246BC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78D143-3077-4901-A28B-601C824945C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3A6C92-EA27-4FC1-B98D-B24CB05CAAA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3DAAE03-BA98-41F2-8425-C5345F4CBA1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8F31AA-3EFE-4C91-8942-B730FEC8CAB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836BA0-0DC2-44BE-AB3B-4AA698E882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B9251B-CF2B-42A8-A4D4-752B8F280F7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6BE924F-4B46-4E70-BA64-BB25C472C07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12B8A4C-C004-4EED-B66E-6A56383CE62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2A1AD4-2AAB-4668-B423-37BC0A684CF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A8ABE0-7036-43EC-A85E-C9E7FD4080C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B451E3-4980-4834-A5E5-03EB6DE4AA1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782426-4159-4223-8644-F875893A27C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E2F85E-F045-4BB0-98A8-7D0AE0854AB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3BA9820-A550-4F1B-8D8A-206633C154A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8E994B-01F2-45A2-A538-427A66B366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18D114-9696-4C9E-AB42-27F2249DAAC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1F37BA-61B1-4D41-B493-CE414F8CB63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82E0EC1-DE7B-4E9A-B1EA-3567B723368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C0225B-A652-4CDE-8AD0-3C36753AC59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445724-ACB5-48FA-8678-E3A54CE1741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51BABC-2B9B-401E-8795-1964ED0FAE8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12520C-9A75-430C-97B6-414F0CAF845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57E728-1CC7-4DA3-8ECB-6DE8403E040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FCDC5C-7539-4A31-A817-4F4582C2942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DB184C-13C5-42AA-943D-8FEA9B878F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C20E1C-89A7-4BD0-8997-4F7104A3E87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A280C3-1EE9-45EE-A701-0DB29534E9F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63A4B2-8EE6-4424-98AB-D466356238C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57EA552-1F62-4052-BFF1-C9750208045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AE866A-88B8-42A4-908D-02793C9E33B2}"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DF2AC36-9128-4C33-BE16-6A84EF6EC68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9948DF4-EA88-4BF2-A6A1-234355978D25}"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755CAB-1DB5-4C4C-B4B3-017CA9F90E5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6F22D0-AF84-4268-B7D7-21C0D34731B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68D4A04-1E4B-45A2-938E-B3B828BFA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B25109-2EB3-4A96-99F6-98F9653D3D9B}"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0E4589-B07B-4F8D-9859-1177E2DEB51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9BE6D42-9736-4F30-A673-9E98244E5DA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5640D9-BE1F-4088-A0BE-D512A9DFD6DC}"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B1143F-4780-4088-B0AD-C9C8F01EB66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95D7A7-292B-4AE9-9B60-037DE365E71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187093-D1A8-4DA1-A147-D106EAC0C3E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DDC0F4-A216-4980-915D-369624FCE6DA}"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4B9DE7F-1165-4046-B68D-6114D22BE4D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059034-6D8D-422C-8500-E0CA0219181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7F6CE4-893B-4A73-97A4-7A4A7F3CA81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7EF340-A218-4CA4-9F8D-94F95C7179F9}"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A988EE-DAFB-445C-A98F-585AF816F23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5B74C5-113A-4D6B-873C-F6D9A556C0C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9E8F48-6DB0-4B78-B8BF-2D8525D3D10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31CF603-1F8A-4B33-AA10-A1D54E05FB7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5021F3-938D-4677-847C-0C453AEB160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5A80BC-F86B-40CF-875A-9249D690DBFD}"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FDB454A-9970-4FBB-9347-7859CAB8123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2641183-E06E-40FD-935E-1F7BA490068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DA92C1-4080-40E7-BCC9-6A1185109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2FF385-A07C-4510-9F6B-E3FFCBA27A4E}"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354275-C115-48A7-8F66-4367157E0FC1}"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2C0096-770D-4F6B-B0F7-21C6D4528078}"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7EA4919-E275-4D1D-84A5-8326266A6853}"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095FFBD-5F1F-491A-82B2-B5D8EAF8B9B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F51237C-D3D4-4F28-92BC-70B6EB9B15DF}"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653DC7-4E39-48FD-A840-43129DF03AC4}"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6031A8A-79A0-4147-9BC4-D6DB7D37A730}"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de-DE"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B0F18AA-C326-463D-9C13-6487DC1D6866}" type="slidenum">
              <a:rPr b="0" lang="de-DE"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5-30T13:55:19Z</dcterms:modified>
  <cp:revision>868</cp:revision>
  <dc:subject/>
  <dc:title>Agena Language Summary</dc:title>
</cp:coreProperties>
</file>